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B6AF97-2AAB-42CC-8E70-C7A4A48EC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78A40B5-4DD4-4D36-BEC8-C2603118F77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592954-2FB7-486B-8584-EB780FD91CD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85122CD-D760-4056-9457-F98FB693ED0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CFF633C-0DD1-4E7B-A8F8-3BFBE6E1C78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5B9B7AE-C5B2-47B1-A818-EEE051072C0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878-2628-4560-AB2B-4775D39E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984-9A35-45ED-A18D-A0061029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785-E175-47F9-BACA-69796F92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56F-16B3-4EEF-86E5-B26A9EBE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3D9A-A5CE-47BF-8CF0-1C4B485F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CB2A-F40E-415A-9B68-6E2E443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2F6D-9F17-4B3D-81E8-35785242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BB72-A2E2-4EAA-8A1E-8239E86B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E309-05E7-44C5-A105-8F0172C5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C872-6BE7-4B8B-856F-3F477C11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80E7-7BE0-4DA3-81D2-4384ACF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6AC-470E-463F-80DC-1B1D678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65D0-80C3-401E-A17E-A9FE889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3226-1E89-4836-B45D-65728D7C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D4C8-DEC2-4AB2-801B-D6589628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1E52-BB2A-45D0-A61A-7703F3CA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D0ED-A196-462C-8AC4-EB63B06F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FF1-AC1F-4E0B-8224-D6B629A6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4F7-15C6-42C0-9700-7C87BF8D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31C-4539-48D9-99C5-7E9F4772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755-BA12-4A8A-8674-EB8257EE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0B8-B067-481B-A378-64D3B84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DA0-D0DD-4EB1-8921-927020FF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DCD-AB85-41F7-B03B-157D5D7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A0AA-FA1A-4966-A96A-6DF3D3AB90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229E-3611-450D-87A8-572F97C6D9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sustainable_use_pesticides/index_en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1760" y="1717560"/>
            <a:ext cx="878868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Sustainable Use of Pesticides in the EU: </a:t>
            </a: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Directive 2009/128/EC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52320" y="4818240"/>
            <a:ext cx="80010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Karin Niensted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DG Health and Consumers / SANCO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Unit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 E3 – Chemicals, contaminants, pesticid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6 October 2014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13590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b050"/>
                </a:solidFill>
                <a:latin typeface="Verdana"/>
              </a:rPr>
              <a:t>EU legislative framework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2560" y="981000"/>
            <a:ext cx="30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57320" y="2460600"/>
            <a:ext cx="201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Placing on the market of plant protection product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239920" y="5740560"/>
            <a:ext cx="43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Technical requirements for machinery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031160" y="4124160"/>
            <a:ext cx="183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Maximum residue levels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74600" y="454356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Collection </a:t>
            </a:r>
            <a:br>
              <a:rPr sz="2000"/>
            </a:b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of statistic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7" name="AutoShape 15"/>
          <p:cNvSpPr/>
          <p:nvPr/>
        </p:nvSpPr>
        <p:spPr>
          <a:xfrm flipH="1">
            <a:off x="6268320" y="450540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2198520" y="2716200"/>
            <a:ext cx="54324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800760" y="2496960"/>
            <a:ext cx="20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Sustainable use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0" name="AutoShape 25"/>
          <p:cNvSpPr/>
          <p:nvPr/>
        </p:nvSpPr>
        <p:spPr>
          <a:xfrm flipH="1" rot="5400000">
            <a:off x="4269600" y="5393520"/>
            <a:ext cx="3729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1" name="AutoShape 31"/>
          <p:cNvSpPr/>
          <p:nvPr/>
        </p:nvSpPr>
        <p:spPr>
          <a:xfrm flipH="1" rot="10776000">
            <a:off x="2003040" y="451476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2" name="Picture 32" descr=""/>
          <p:cNvPicPr/>
          <p:nvPr/>
        </p:nvPicPr>
        <p:blipFill>
          <a:blip r:embed="rId1"/>
          <a:stretch/>
        </p:blipFill>
        <p:spPr>
          <a:xfrm>
            <a:off x="2843280" y="2419200"/>
            <a:ext cx="3322440" cy="2949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3"/>
          <p:cNvSpPr/>
          <p:nvPr/>
        </p:nvSpPr>
        <p:spPr>
          <a:xfrm rot="10800000">
            <a:off x="6194520" y="2674800"/>
            <a:ext cx="54288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8"/>
          <p:cNvSpPr/>
          <p:nvPr/>
        </p:nvSpPr>
        <p:spPr>
          <a:xfrm>
            <a:off x="1727280" y="2111400"/>
            <a:ext cx="3662280" cy="1401840"/>
          </a:xfrm>
          <a:custGeom>
            <a:avLst/>
            <a:gdLst>
              <a:gd name="textAreaLeft" fmla="*/ 0 w 3662280"/>
              <a:gd name="textAreaRight" fmla="*/ 3662640 w 366228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281320" y="2289240"/>
            <a:ext cx="30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irectiv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 2009/128/EC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6" name="Picture 15" descr="MS"/>
          <p:cNvPicPr/>
          <p:nvPr/>
        </p:nvPicPr>
        <p:blipFill>
          <a:blip r:embed="rId1"/>
          <a:stretch/>
        </p:blipFill>
        <p:spPr>
          <a:xfrm>
            <a:off x="1812960" y="3824280"/>
            <a:ext cx="1225440" cy="79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38400" y="3962520"/>
            <a:ext cx="50659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Implementation by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National Action Plans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2 </a:t>
            </a: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(revised at least every 5 year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1362600" y="5567400"/>
            <a:ext cx="61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Directive: national approaches in implementation + subsidiarity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"framework" Directiv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9" name="Right Arrow 2"/>
          <p:cNvSpPr/>
          <p:nvPr/>
        </p:nvSpPr>
        <p:spPr>
          <a:xfrm>
            <a:off x="636480" y="59976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047600" y="22543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84200" y="2381760"/>
            <a:ext cx="288612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Reduce impacts on humans and the environ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+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MS PGothic"/>
              </a:rPr>
              <a:t>promote the use of low pesticides-input pest manage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062240" y="3645000"/>
            <a:ext cx="882720" cy="523800"/>
          </a:xfrm>
          <a:prstGeom prst="rightArrow">
            <a:avLst>
              <a:gd name="adj1" fmla="val 50000"/>
              <a:gd name="adj2" fmla="val 42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070520" y="37400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Tools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581800" y="136368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5573880" y="184464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573880" y="2325600"/>
            <a:ext cx="430200" cy="479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5581800" y="2830680"/>
            <a:ext cx="430200" cy="475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5573880" y="33289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5581800" y="38149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6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581800" y="43243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7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5581800" y="482760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8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581800" y="53323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977080" y="143820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Training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6032520" y="193212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Sal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6032520" y="241308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wareness raising 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6033960" y="2908440"/>
            <a:ext cx="18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Equip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6058080" y="3400560"/>
            <a:ext cx="21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erial application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033960" y="3807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quatic environ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5934240" y="43848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Protected area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5965920" y="477684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ndling, storage, disposal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046920" y="533556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IPM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2" name="Oval 16"/>
          <p:cNvSpPr/>
          <p:nvPr/>
        </p:nvSpPr>
        <p:spPr>
          <a:xfrm>
            <a:off x="5583240" y="582948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6068880" y="581040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rmonised risk indicator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rain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fessional PPP users, distributors and advisors get proper trai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U countries establish certification system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Dec 2013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PP sale only by trained people (certificat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sale of professional PPPs to people without certific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spection of equipment in 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l PAE inspected at least once by 2016, then every 5 year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fter 2020 every 3 year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monised standards for inspection of PAE under developme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CEN mandate / ISO standard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erial spraying is prohibi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derogations are possible under some conditions. Warning of residents essential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312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grated pest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eneral IPM principles (Annex III) mandatory for professional users since 1 January 2014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guarantee conditions for IPM (e.g. information tools, advisory services) + incentiv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report by 2013 to COM on IPM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andling, storage, dispos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overy and disposal of PPP remnants and packaging according to waste legis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torage areas should prevent unwanted release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formation and awareness rais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easures to inform the general publi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ystems to gather information on acute and chronic poiso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onitoring – strategic guidance under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inimising use or banning of PPP use in critical areas for environmental and health reas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water, public parcs, schools, protected natural areas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400" y="1328760"/>
            <a:ext cx="8011800" cy="20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sustainable_use_pesticides/index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6" descr="question-mark1a"/>
          <p:cNvPicPr/>
          <p:nvPr/>
        </p:nvPicPr>
        <p:blipFill>
          <a:blip r:embed="rId2"/>
          <a:stretch/>
        </p:blipFill>
        <p:spPr>
          <a:xfrm>
            <a:off x="3057480" y="2695680"/>
            <a:ext cx="2629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5:30:30Z</dcterms:created>
  <dc:creator/>
  <dc:description/>
  <dc:language>en-US</dc:language>
  <cp:lastModifiedBy/>
  <dcterms:modified xsi:type="dcterms:W3CDTF">2014-10-06T10:22:04Z</dcterms:modified>
  <cp:revision>1</cp:revision>
  <dc:subject/>
  <dc:title/>
</cp:coreProperties>
</file>